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6195-036E-483F-B1BB-19D3E1A7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AD148-26F7-4A9E-AC87-60D2FC06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0A44-5B11-4FDE-8B6F-2DDFEC03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18BD-8339-40D4-81FC-CA155687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3AA5-BBFB-4FDF-B496-A875744E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36E7-70C9-4D3C-9FB7-1CFABB34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6379-1508-42A2-90C3-42BA83B9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F001-2E0E-479B-850F-9C1AB567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89BD-5FE9-4E8D-B039-E6470722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70A5-1C4E-4CAA-A93F-5D413B58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5022-1983-4A1E-8F36-5F543F96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1B92-10D7-4AFE-8E09-18C771FE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F122-2E0F-4A83-8C2D-2CC81B5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CABC-45DE-4899-8381-B3B01771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A7A1-30B9-4510-8555-1110FA79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BF75-5C29-431A-877A-16B0948A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99CA-908A-4096-B160-5D1FC08A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F1A4-F6E0-4482-AD6F-E2AAB4FC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8885-E24B-4B22-B262-E2ED5FEF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10B8-73AF-42CD-B54C-80EA73D2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1B1C-7F72-49DB-91BA-FC78709D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D722-E71F-4219-82BA-2A6BF635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695A-B631-4D13-86F7-DECAEE1F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81A5-5B69-4ABA-A941-8888B10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2261-8F2D-4D0A-B944-4A3FC9C83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7C8E-071F-4479-A23E-BE3BB2F06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920" y="1833120"/>
            <a:ext cx="69408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新板橋区スマートシティ推進方針策定</a:t>
            </a:r>
            <a:br>
              <a:rPr sz="2800"/>
            </a:br>
            <a:r>
              <a:rPr b="1" lang="zh-TW" sz="28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支援業務委託</a:t>
            </a:r>
            <a:r>
              <a:rPr b="1" lang="ja-JP" sz="28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企画提案書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様式２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605C-48AE-458A-841E-454F8617FEB0}" type="slidenum"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6-09T06:57:47Z</dcterms:created>
  <dc:creator/>
  <dc:description/>
  <dc:language>en-US</dc:language>
  <cp:lastModifiedBy/>
  <dcterms:modified xsi:type="dcterms:W3CDTF">2025-06-09T06:57:52Z</dcterms:modified>
  <cp:revision>1</cp:revision>
  <dc:subject/>
  <dc:title/>
</cp:coreProperties>
</file>